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7859A2-15AC-43DF-82A0-20FB5FDEE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sson is about 9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E61A25-B589-49B8-A0C9-4DFEB9EAF01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: What is it? A tweet  Who wrote it? Hazel Healy  Did she write the article?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9345AF-3EB5-48FE-B7A2-17BB47391850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y/elicit the nature of a tweet – 140 characters maximum. Students can write on slips to pass around, or onto the board(s) or flipchart paper and share and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BE28E9-819F-4BD7-9EA5-5E239BF40BFB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) drowned  2) capsize  3)  dissuaded   4)  attempting  5) high (winds)  6) rough (seas)  7)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DDDCBB-D5C2-4EDA-8D8D-8925ED128A46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ut up words/phrases and definitions and get learners, in groups, to discuss and match. Or do this to the screen, or hando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/f   2/b   3/i   4/d   5/e   6/h  7/g  8/a   9/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847B45-62EA-4B82-BF84-6E75E2C1C63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Refugee crisis in Lesbos gets worse as winter 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6E6C2D-1222-4F23-9AB4-DAC27A60825E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gees in Lesbos wanting to escape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E8FE29-C0F8-41AE-9D67-22AE9DE56EC9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predict answers in pairs and then read to check KEY: 1) Yes  2) Yes  3) Yes  4) Yes  5) No  6)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80F6B2-EE2B-4192-BA39-834CA6B780A6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1) Yes  2) Yes  3)  No  4) Yes   5)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0ED688-80B9-4447-8135-037C6F1E7395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19D-12A7-4811-B397-A370D9BF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C68-62EA-45D7-9FB5-D9BC54FE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FE3-CF03-49F5-AD3C-1839AD5D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6E8-B1E5-4F14-9666-CB45A8BF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571E-40CC-4FD4-87A2-F26F90CB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DCAC-CE16-411D-9653-272BECE5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0479-8E94-4395-9B57-D202AE6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AA1A-D92B-4915-9F1C-B8F4B42A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3175-BC3D-4707-AC96-966AF007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D83-2AD1-452D-95A5-1C1AF3F0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6E9B-940A-408F-B98A-FCDF0F6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A05-4197-4302-AC56-5666ED4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4AB7-D13B-4605-856E-2DCEB82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5A3D-2483-431B-BD82-0AFB1BAE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328F-269A-48CB-A424-238FA1AD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CD75-427E-4CD5-B39E-77B15EDF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7E67-F15C-4F5A-A1CF-FB882573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C83B-E702-4BDE-BA48-F29D5E71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80F2-2D33-4FCE-AE99-7E81C13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483E-DC18-41A2-9442-FA9B24F3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2A0F-124B-426F-BA74-25EFD8A2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1ADB-9071-42BE-963F-032AF8B1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A65-13A4-49CF-98F2-FEE3961D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56B4-ADE7-4920-9CD6-0439691D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D434-2747-49FB-BBEA-235FB7F7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9195-ED57-4568-BB48-54F57680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7682-1490-4F95-B7DB-5153391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8EA3-E104-4305-98C4-5CF07615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908E-3C61-4A18-BE2A-C679B094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6D8D-237D-4C2A-BB71-A7B574D7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4CC58-C62C-4D1D-8CC3-10CEFE9B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C9976-DC65-4870-8961-02F2A6F9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23D7-C1F2-4E01-8DA8-C8009682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ABD-60E1-42FA-9305-9897ED39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CD93F-7F6D-4C0E-8A89-0532781D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D7B8-1E0A-4F5D-942E-F7D9D31B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3996D-A8E3-47A6-AD4C-644FF3B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D224-513D-4A48-AF76-65F95479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D6700-5BFB-4C4C-9AE3-72B436C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C41B-58EA-49DC-AE36-938EC376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4691-E4A4-4ECF-B3B7-C93EF5A1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176B-BB96-4004-B735-CF28D2B5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5201-D8BE-4CB1-9FB5-E2AF8B96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341-0226-47E9-974C-34BFDA5F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DC4-D808-4BDE-858E-0513450B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B68E-0E23-49F8-8447-DBD164A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C69-C893-4A0D-B663-B903E39B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832-5D99-4619-A6CB-FC7C68BF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FC1108-FFA8-4BC5-B26F-2C09D286198A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2D818A-254A-4E06-AC68-B4709830337A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E4B39D-4141-4BD8-8664-60964440F383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5FE680-AF6A-4145-888C-8565F205BE3E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int.org/blog/2015/11/04/refugee-crisis-worsens-in-lesbos-as-winter-looms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782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Ref                           </a:t>
            </a: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Refugees in</a:t>
            </a:r>
            <a:br>
              <a:rPr sz="6000"/>
            </a:b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                   Lesb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-Intermediat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Internationali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ier English read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949200" y="148680"/>
            <a:ext cx="5175000" cy="129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95640" y="1333800"/>
            <a:ext cx="4334400" cy="28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zel He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@hazel_h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rst night on Lesbos. Arrived and  heard a ship sank, hundreds of refugees died in the se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55640" y="1484640"/>
            <a:ext cx="1616760" cy="16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Write a tweet about the situation in Lesbos to the head of your government. A tweet can only be 140 characters at mos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940000" y="332640"/>
            <a:ext cx="180468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ead the original article and find words which me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ied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when boats turn over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advised not to do someth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try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strong (wind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angerous (sea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out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5/11/04/refugee-crisis-worsens-in-lesbos-as-winter-loom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300360" y="3861000"/>
            <a:ext cx="181080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oday’s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Vocabula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Read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Wri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652000" y="1484640"/>
            <a:ext cx="29412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640" y="116640"/>
            <a:ext cx="259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302400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1/ refug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/ resc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/ equi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4/ urg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5/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6/ 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7/ leg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8/ sa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9/ rou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15640" y="116640"/>
            <a:ext cx="6228000" cy="67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)  opposite of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b)  help someone from a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)  way to go from one plac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)  very,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e)  look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AutoNum type="alphaLcParenR" startAt="6"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erson who wants to go to another country because of da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g)   Ok with th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h)   get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i)    machin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ut the headline in the right 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orse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inter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a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Refugee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Lesbo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risi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in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get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omes.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5200" y="1630800"/>
            <a:ext cx="25948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re they? Where are they? Why are they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22200" y="1700640"/>
            <a:ext cx="68187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640" y="138888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1 A woman wrote the articl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2 There are  refugees  in Lesbos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3 Lesbos is in Greec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4 Lesbos is an island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5 Lesbos is 100 km from Turkey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6 60 refugees died in 5 days. Possib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w read and check your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71440" y="131400"/>
            <a:ext cx="18046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364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In the 5 days Hazel was on Lesbos, she heard  more than 60 people died in the Aegean Sea trying to get to Europe. About half of these were children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ad again and find the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1 About 30 children died in the sea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2 The weather is a big problem for the boats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3 The boats are in good condition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4 Most of the refugees on their way to Euro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died in October this year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5 Countries must make it easier for refug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to go to Europe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88360" y="5373360"/>
            <a:ext cx="18046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5 days Hazel was on Lesbos, more than 60 people died in the Aegean Sea trying to get to Europe. About half of these were 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dreds of people have died trying to get to Europe this year, half of them in October. The United Nations High Commissioner for Refugees said it is urgent for search-and-rescue to improve. He says countries must make more legal, safe routes for refugees to get to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  <Words>794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14:21:53Z</dcterms:created>
  <dc:creator>windows 7 image</dc:creator>
  <dc:description/>
  <dc:language>en-US</dc:language>
  <cp:lastModifiedBy>Linda Ruas</cp:lastModifiedBy>
  <dcterms:modified xsi:type="dcterms:W3CDTF">2015-12-02T19:38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